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E65-AE56-45D7-89EE-A42623EC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D4E-883E-4FE7-93CA-FA87AD99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417-5522-4483-B1C0-50CDE331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29A-722F-4A1F-9AE7-9CF55D05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402-352D-4273-95F4-95689D6C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D086-8EE8-4BE7-8F32-7386BA7B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EFF0-B17F-4C62-A59B-5737345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07C-B297-4D89-94E8-09FDA275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07F-0C28-4F2A-ADE1-602337C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179C-F1C3-41AF-BDDA-72D328F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83C-509E-452B-8494-2164509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6AD-30A9-48B4-92E0-2659ED3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C941-73C1-4800-BAF3-46B6BF6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F99-FDFC-43F3-A043-0F71C2F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A78-D73E-46BB-9FB2-37390106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12B-1982-442D-ACC9-74510798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5F87-BA1A-4C64-AE55-FEE150A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DAD1-4208-4597-96F5-C569F201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F0D6-4E1C-4173-B647-43D351F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6380-5117-4633-A8E5-481C2CA9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B236-61C7-4F71-8CCA-7EF15BB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F39-33A9-4309-AFCC-598E952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E49-7010-40C5-A103-C2CBA4C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E1CC-96AE-4ED4-945E-5C6418D0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8E42-CD50-477E-8AF6-EC278E7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B135-89D5-4D2E-BF76-53911AF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DB01-D4AD-442E-BE15-6BD4E30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6FD3-57A1-48CE-8C47-564602C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5CB8-CD46-437F-B682-B1D4FA02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C543-AF0B-44B5-9919-C55BB253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5DC1-3FEF-4AB7-B17D-FC2CFB54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325C-30F3-4964-9BDF-BF9A7CE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FF4D-19BC-47A9-A69A-3E508CD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25F-B977-4DBE-AE3D-1F2192C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5315-D917-423D-8D98-77865DA0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E095-77AC-4009-8AC6-064EA668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7481-1E34-4DE1-99C1-EDF0E92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DAFCF-BF40-41CA-850B-B78754A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EEDF-BC52-4BA8-971C-D596220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88E4-D4A4-4755-AA17-E499E93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8936-F139-487A-B93F-7C1AC74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FD48-F005-4238-A45F-731676C9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2C76-952C-4730-BD67-1373C26C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BC00-86B9-4BE3-8858-60528DF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4FA-9A29-4004-B342-B6557EA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DFE4-F097-4CA7-879A-5047E5A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39E7-5790-465E-A468-70C63D5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52B3-0237-4961-8EEE-56D86A13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7910-E438-492B-8199-78A344F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3707-841E-4D2A-8AFF-4334944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A0BC-7B94-4634-877A-172CCD4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AD40-5027-4B46-927A-3D8BE49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DE25-BBC8-474C-AE21-56FE73A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CFD5-7E2E-46E6-B429-6B32E26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D252E-EC6B-42E1-84A2-F3399263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DE5-91D9-4610-8C59-2EBF00E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DF42E-CD64-4160-A8D2-3E82F9BF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6D16-A56B-4F27-A8FA-16056C6C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B7E8-5223-4151-9953-1EB8B58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5D0A-5539-4B1E-85CE-5E0464C8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18625-7050-4B32-9B7C-23DA1BC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D7C3-45A4-4945-AA84-552773F8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DE74-1931-4788-BB90-CDF250E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BD24-84CF-49F3-9EE1-A2D2CA5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52A44-D980-4E4E-9563-72D4A7D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7B5C-CF42-4744-A7BF-61E583C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0E1-FD42-4C71-A224-9E9C1C5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333E-451C-408B-811D-F371582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426F-ABAE-44BF-8DD7-48413DBF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8D3F-FD97-4658-B6B1-B37598AC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87B-2878-409C-8429-A5ECA01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394-4DFB-4643-B79C-1C8AD16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8A3DC-E94A-44F4-8C8B-1AB4F5457ED8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DCF18-5798-4126-81F4-879BFAC97B47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BA2B5-DD3F-42F2-8424-DD6AC631C941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F81CF-8EDD-41D1-B9B7-D84365C94A0C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9DDFC-48C8-4DA6-A156-C88757D5EE66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1A648-E738-4D12-95C4-EBA313312724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4F359-A392-46F1-B10F-290380BEB3EE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8A023-590A-4189-A42A-D97D3704153C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5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EABF3-F780-4349-871E-46FDBF0D3FA7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47F40-F95D-43F3-BEB5-190B5553B32E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2DA1E-46CF-41CA-BDBE-FF830FFB26FE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06660-41A5-4889-8DD9-5AD1BE2D64BF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5.xml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6.xml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" Target="slide17.xml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8.xml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slide" Target="slide19.xml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slide" Target="slide21.xml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" Target="slide22.xml"/><Relationship Id="rId29" Type="http://schemas.openxmlformats.org/officeDocument/2006/relationships/image" Target="../media/image23.png"/><Relationship Id="rId30" Type="http://schemas.openxmlformats.org/officeDocument/2006/relationships/slide" Target="slide3.xml"/><Relationship Id="rId31" Type="http://schemas.openxmlformats.org/officeDocument/2006/relationships/image" Target="../media/image24.png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" Target="slide9.xml"/><Relationship Id="rId11" Type="http://schemas.openxmlformats.org/officeDocument/2006/relationships/image" Target="../media/image34.png"/><Relationship Id="rId12" Type="http://schemas.openxmlformats.org/officeDocument/2006/relationships/slide" Target="slide10.xml"/><Relationship Id="rId13" Type="http://schemas.openxmlformats.org/officeDocument/2006/relationships/image" Target="../media/image35.png"/><Relationship Id="rId14" Type="http://schemas.openxmlformats.org/officeDocument/2006/relationships/slide" Target="slide11.xml"/><Relationship Id="rId15" Type="http://schemas.openxmlformats.org/officeDocument/2006/relationships/image" Target="../media/image36.png"/><Relationship Id="rId16" Type="http://schemas.openxmlformats.org/officeDocument/2006/relationships/slide" Target="slide12.xml"/><Relationship Id="rId17" Type="http://schemas.openxmlformats.org/officeDocument/2006/relationships/image" Target="../media/image37.png"/><Relationship Id="rId18" Type="http://schemas.openxmlformats.org/officeDocument/2006/relationships/slide" Target="slide13.xml"/><Relationship Id="rId19" Type="http://schemas.openxmlformats.org/officeDocument/2006/relationships/image" Target="../media/image38.png"/><Relationship Id="rId20" Type="http://schemas.openxmlformats.org/officeDocument/2006/relationships/slide" Target="slide14.xml"/><Relationship Id="rId21" Type="http://schemas.openxmlformats.org/officeDocument/2006/relationships/image" Target="../media/image39.png"/><Relationship Id="rId22" Type="http://schemas.openxmlformats.org/officeDocument/2006/relationships/slide" Target="slide15.xml"/><Relationship Id="rId23" Type="http://schemas.openxmlformats.org/officeDocument/2006/relationships/image" Target="../media/image40.png"/><Relationship Id="rId24" Type="http://schemas.openxmlformats.org/officeDocument/2006/relationships/slide" Target="slide16.xml"/><Relationship Id="rId25" Type="http://schemas.openxmlformats.org/officeDocument/2006/relationships/image" Target="../media/image41.png"/><Relationship Id="rId26" Type="http://schemas.openxmlformats.org/officeDocument/2006/relationships/slide" Target=""/><Relationship Id="rId27" Type="http://schemas.openxmlformats.org/officeDocument/2006/relationships/image" Target="../media/image42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560600"/>
          </a:xfrm>
          <a:prstGeom prst="rect">
            <a:avLst/>
          </a:prstGeom>
          <a:ln w="0">
            <a:noFill/>
          </a:ln>
        </p:spPr>
      </p:pic>
      <p:pic>
        <p:nvPicPr>
          <p:cNvPr id="249" name="Subtitle 2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2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PURPOS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0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3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SPEECH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3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4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AC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5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LIV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1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5500800" y="1332000"/>
            <a:ext cx="1066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6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EFFORT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3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7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THINKING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6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8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MEDITATION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29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is Wher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uth Asia was the birthplace of Buddh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2498760" y="3849840"/>
            <a:ext cx="1625400" cy="1574640"/>
          </a:xfrm>
          <a:prstGeom prst="rect">
            <a:avLst/>
          </a:prstGeom>
          <a:ln w="0">
            <a:noFill/>
          </a:ln>
        </p:spPr>
      </p:pic>
      <p:pic>
        <p:nvPicPr>
          <p:cNvPr id="333" name="Action Button: Home 5" descr=""/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  <p:pic>
        <p:nvPicPr>
          <p:cNvPr id="334" name="Action Button: Custom 6" descr=""/>
          <p:cNvPicPr/>
          <p:nvPr/>
        </p:nvPicPr>
        <p:blipFill>
          <a:blip r:embed="rId4"/>
          <a:stretch/>
        </p:blipFill>
        <p:spPr>
          <a:xfrm>
            <a:off x="2432160" y="3803760"/>
            <a:ext cx="1755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309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Spread Across Asi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98600" y="1899720"/>
            <a:ext cx="81468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roughout the years, Buddhism spread across Asia and Buddhism wasn’t just a religion practiced in South Asi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37" name="Action Button: Home 3" descr=""/>
          <p:cNvPicPr/>
          <p:nvPr/>
        </p:nvPicPr>
        <p:blipFill>
          <a:blip r:embed="rId2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Buddhism Bring To Asia? 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uddhism brought the ideas of the “Fourth Noble Truths”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6620040" y="4119480"/>
            <a:ext cx="660240" cy="1625760"/>
          </a:xfrm>
          <a:prstGeom prst="rect">
            <a:avLst/>
          </a:prstGeom>
          <a:ln w="0">
            <a:noFill/>
          </a:ln>
        </p:spPr>
      </p:pic>
      <p:pic>
        <p:nvPicPr>
          <p:cNvPr id="341" name="Action Button: Custom 5" descr=""/>
          <p:cNvPicPr/>
          <p:nvPr/>
        </p:nvPicPr>
        <p:blipFill>
          <a:blip r:embed="rId3"/>
          <a:stretch/>
        </p:blipFill>
        <p:spPr>
          <a:xfrm>
            <a:off x="6553080" y="4078440"/>
            <a:ext cx="792360" cy="1755720"/>
          </a:xfrm>
          <a:prstGeom prst="rect">
            <a:avLst/>
          </a:prstGeom>
          <a:ln w="0">
            <a:noFill/>
          </a:ln>
        </p:spPr>
      </p:pic>
      <p:pic>
        <p:nvPicPr>
          <p:cNvPr id="342" name="Action Button: Home 6" descr=""/>
          <p:cNvPicPr/>
          <p:nvPr/>
        </p:nvPicPr>
        <p:blipFill>
          <a:blip r:embed="rId4"/>
          <a:stretch/>
        </p:blipFill>
        <p:spPr>
          <a:xfrm>
            <a:off x="7523280" y="5450040"/>
            <a:ext cx="888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7230960" y="1311120"/>
            <a:ext cx="1666800" cy="1893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3513240" y="5268960"/>
            <a:ext cx="1898640" cy="1292040"/>
          </a:xfrm>
          <a:prstGeom prst="rect">
            <a:avLst/>
          </a:prstGeom>
          <a:ln w="0">
            <a:noFill/>
          </a:ln>
        </p:spPr>
      </p:pic>
      <p:pic>
        <p:nvPicPr>
          <p:cNvPr id="252" name="Action Button: Custom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44840" y="5224320"/>
            <a:ext cx="2102040" cy="1425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6"/>
          <a:stretch/>
        </p:blipFill>
        <p:spPr>
          <a:xfrm>
            <a:off x="409680" y="3983040"/>
            <a:ext cx="1230120" cy="2571840"/>
          </a:xfrm>
          <a:prstGeom prst="rect">
            <a:avLst/>
          </a:prstGeom>
          <a:ln w="0">
            <a:noFill/>
          </a:ln>
        </p:spPr>
      </p:pic>
      <p:pic>
        <p:nvPicPr>
          <p:cNvPr id="254" name="Action Button: Custom 10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1280" y="3938760"/>
            <a:ext cx="1359000" cy="2711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9"/>
          <a:stretch/>
        </p:blipFill>
        <p:spPr>
          <a:xfrm>
            <a:off x="6254640" y="4257720"/>
            <a:ext cx="1414440" cy="2023920"/>
          </a:xfrm>
          <a:prstGeom prst="rect">
            <a:avLst/>
          </a:prstGeom>
          <a:ln w="0">
            <a:noFill/>
          </a:ln>
        </p:spPr>
      </p:pic>
      <p:pic>
        <p:nvPicPr>
          <p:cNvPr id="256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88040" y="4211640"/>
            <a:ext cx="1541520" cy="21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"/>
          <p:cNvPicPr/>
          <p:nvPr/>
        </p:nvPicPr>
        <p:blipFill>
          <a:blip r:embed="rId12"/>
          <a:stretch/>
        </p:blipFill>
        <p:spPr>
          <a:xfrm>
            <a:off x="5289480" y="878040"/>
            <a:ext cx="933480" cy="741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0"/>
          <p:cNvSpPr/>
          <p:nvPr/>
        </p:nvSpPr>
        <p:spPr>
          <a:xfrm>
            <a:off x="4673520" y="161928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02c24"/>
                </a:solidFill>
                <a:latin typeface="Book Antiqua"/>
              </a:rPr>
              <a:t>WANTS</a:t>
            </a:r>
            <a:endParaRPr b="0" lang="en-US" sz="4400" spc="-1" strike="noStrike">
              <a:solidFill>
                <a:srgbClr val="302c24"/>
              </a:solidFill>
              <a:latin typeface="Arial"/>
            </a:endParaRPr>
          </a:p>
        </p:txBody>
      </p:sp>
      <p:pic>
        <p:nvPicPr>
          <p:cNvPr id="259" name="Action Button: Custom 2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602240" y="762120"/>
            <a:ext cx="2298600" cy="1712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"/>
          <p:cNvPicPr/>
          <p:nvPr/>
        </p:nvPicPr>
        <p:blipFill>
          <a:blip r:embed="rId15"/>
          <a:stretch/>
        </p:blipFill>
        <p:spPr>
          <a:xfrm>
            <a:off x="409680" y="217440"/>
            <a:ext cx="1500120" cy="1844640"/>
          </a:xfrm>
          <a:prstGeom prst="rect">
            <a:avLst/>
          </a:prstGeom>
          <a:ln w="0">
            <a:noFill/>
          </a:ln>
        </p:spPr>
      </p:pic>
      <p:pic>
        <p:nvPicPr>
          <p:cNvPr id="261" name="Action Button: Custom 24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60360" y="176040"/>
            <a:ext cx="1676520" cy="2024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"/>
          <p:cNvPicPr/>
          <p:nvPr/>
        </p:nvPicPr>
        <p:blipFill>
          <a:blip r:embed="rId18"/>
          <a:stretch/>
        </p:blipFill>
        <p:spPr>
          <a:xfrm>
            <a:off x="3745080" y="3205080"/>
            <a:ext cx="2011320" cy="1684440"/>
          </a:xfrm>
          <a:prstGeom prst="rect">
            <a:avLst/>
          </a:prstGeom>
          <a:ln w="0">
            <a:noFill/>
          </a:ln>
        </p:spPr>
      </p:pic>
      <p:pic>
        <p:nvPicPr>
          <p:cNvPr id="263" name="Action Button: Custom 26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76680" y="3164040"/>
            <a:ext cx="214452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21"/>
          <a:stretch/>
        </p:blipFill>
        <p:spPr>
          <a:xfrm>
            <a:off x="1887480" y="258300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Action Button: Custom 18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816200" y="2541600"/>
            <a:ext cx="176220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"/>
          <p:cNvPicPr/>
          <p:nvPr/>
        </p:nvPicPr>
        <p:blipFill>
          <a:blip r:embed="rId24"/>
          <a:stretch/>
        </p:blipFill>
        <p:spPr>
          <a:xfrm>
            <a:off x="2077920" y="4257720"/>
            <a:ext cx="1163880" cy="1868400"/>
          </a:xfrm>
          <a:prstGeom prst="rect">
            <a:avLst/>
          </a:prstGeom>
          <a:ln w="0">
            <a:noFill/>
          </a:ln>
        </p:spPr>
      </p:pic>
      <p:pic>
        <p:nvPicPr>
          <p:cNvPr id="267" name="Action Button: Custom 21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2011320" y="4211640"/>
            <a:ext cx="1292400" cy="200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"/>
          <p:cNvPicPr/>
          <p:nvPr/>
        </p:nvPicPr>
        <p:blipFill>
          <a:blip r:embed="rId27"/>
          <a:stretch/>
        </p:blipFill>
        <p:spPr>
          <a:xfrm>
            <a:off x="2428920" y="669960"/>
            <a:ext cx="1625400" cy="1282680"/>
          </a:xfrm>
          <a:prstGeom prst="rect">
            <a:avLst/>
          </a:prstGeom>
          <a:ln w="0">
            <a:noFill/>
          </a:ln>
        </p:spPr>
      </p:pic>
      <p:pic>
        <p:nvPicPr>
          <p:cNvPr id="269" name="Action Button: Custom 25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2359080" y="628560"/>
            <a:ext cx="1755720" cy="1413000"/>
          </a:xfrm>
          <a:prstGeom prst="rect">
            <a:avLst/>
          </a:prstGeom>
          <a:ln w="0">
            <a:noFill/>
          </a:ln>
        </p:spPr>
      </p:pic>
      <p:pic>
        <p:nvPicPr>
          <p:cNvPr id="270" name="Action Button: Custom 23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7162920" y="1268280"/>
            <a:ext cx="1798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89e4d"/>
                </a:solidFill>
                <a:latin typeface="Book Antiqua"/>
              </a:rPr>
              <a:t>What Did Hinduism Bring To South Asia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755720"/>
            <a:ext cx="8156880" cy="4376880"/>
          </a:xfrm>
          <a:prstGeom prst="rect">
            <a:avLst/>
          </a:prstGeom>
          <a:ln w="0">
            <a:noFill/>
          </a:ln>
        </p:spPr>
      </p:pic>
      <p:pic>
        <p:nvPicPr>
          <p:cNvPr id="345" name="Action Button: Home 3" descr=""/>
          <p:cNvPicPr/>
          <p:nvPr/>
        </p:nvPicPr>
        <p:blipFill>
          <a:blip r:embed="rId3"/>
          <a:stretch/>
        </p:blipFill>
        <p:spPr>
          <a:xfrm>
            <a:off x="7523280" y="5376960"/>
            <a:ext cx="895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soka Wh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soka was a Hindu General who was one of the greatest ruler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e taught all of the beliefs and stressed religious toleration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48" name="Action Button: Home 3" descr=""/>
          <p:cNvPicPr/>
          <p:nvPr/>
        </p:nvPicPr>
        <p:blipFill>
          <a:blip r:embed="rId2"/>
          <a:stretch/>
        </p:blipFill>
        <p:spPr>
          <a:xfrm>
            <a:off x="6742080" y="5065560"/>
            <a:ext cx="8478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Buddhism Taking Over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r a short while, Buddhism temporarily replaced Hinduism and during that time, a lot of of people started practicing Buddhism rather than Hinduism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51" name="Action Button: Home 3" descr=""/>
          <p:cNvPicPr/>
          <p:nvPr/>
        </p:nvPicPr>
        <p:blipFill>
          <a:blip r:embed="rId2"/>
          <a:stretch/>
        </p:blipFill>
        <p:spPr>
          <a:xfrm>
            <a:off x="7175520" y="5376960"/>
            <a:ext cx="11574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Book Antiqua"/>
              </a:rPr>
              <a:t>Buddha</a:t>
            </a:r>
            <a:endParaRPr b="0" lang="en-US" sz="6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0440" y="1828800"/>
            <a:ext cx="77198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The name Buddha means </a:t>
            </a:r>
            <a:r>
              <a:rPr b="0" i="1" lang="en-US" sz="2000" spc="-1" strike="noStrike">
                <a:solidFill>
                  <a:srgbClr val="6d6452"/>
                </a:solidFill>
                <a:latin typeface="Chalkduster"/>
                <a:ea typeface="Chalkduster"/>
              </a:rPr>
              <a:t>“The Enlightened One” Siddhartha Gautama was called Buddha because he knew a lot about how to live a good life.</a:t>
            </a:r>
            <a:endParaRPr b="0" lang="en-US" sz="20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3" name="Action Button: Hom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BUDDHISM Religion Today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oday, there are still over 300 million people still worship Buddha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InaiMathi"/>
                <a:ea typeface="InaiMathi"/>
              </a:rPr>
              <a:t>There are many different practices of Buddhism today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6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irst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Chalkboard"/>
                <a:ea typeface="Chalkboard"/>
              </a:rPr>
              <a:t>Everything in life is sad or sorrowful.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79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Second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pple Casual"/>
                <a:ea typeface="Apple Casual"/>
              </a:rPr>
              <a:t>The cause of sadness, or sorrow, is desire and attachment. People seek joys that lead to suffering. 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2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Third," 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American Typewriter"/>
                <a:ea typeface="American Typewriter"/>
              </a:rPr>
              <a:t>The way to end all pain is to end all want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5" name="Action Button: Hom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327640"/>
            <a:ext cx="907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Book Antiqua"/>
              </a:rPr>
              <a:t>Fourth, “Four Noble Truth”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o stop sorrow you must follow the Eight Fold Path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1400040" y="3468600"/>
            <a:ext cx="411120" cy="13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tretch/>
        </p:blipFill>
        <p:spPr>
          <a:xfrm>
            <a:off x="2158920" y="3524400"/>
            <a:ext cx="803520" cy="1274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tretch/>
        </p:blipFill>
        <p:spPr>
          <a:xfrm>
            <a:off x="3274920" y="3502080"/>
            <a:ext cx="703440" cy="1297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4202280" y="3468600"/>
            <a:ext cx="804600" cy="1408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"/>
          <p:cNvPicPr/>
          <p:nvPr/>
        </p:nvPicPr>
        <p:blipFill>
          <a:blip r:embed="rId6"/>
          <a:stretch/>
        </p:blipFill>
        <p:spPr>
          <a:xfrm>
            <a:off x="5257800" y="3502080"/>
            <a:ext cx="890640" cy="143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"/>
          <p:cNvPicPr/>
          <p:nvPr/>
        </p:nvPicPr>
        <p:blipFill>
          <a:blip r:embed="rId7"/>
          <a:stretch/>
        </p:blipFill>
        <p:spPr>
          <a:xfrm>
            <a:off x="6373800" y="3559320"/>
            <a:ext cx="939960" cy="1401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"/>
          <p:cNvPicPr/>
          <p:nvPr/>
        </p:nvPicPr>
        <p:blipFill>
          <a:blip r:embed="rId8"/>
          <a:stretch/>
        </p:blipFill>
        <p:spPr>
          <a:xfrm>
            <a:off x="7601040" y="3502080"/>
            <a:ext cx="1044360" cy="1458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"/>
          <p:cNvPicPr/>
          <p:nvPr/>
        </p:nvPicPr>
        <p:blipFill>
          <a:blip r:embed="rId9"/>
          <a:stretch/>
        </p:blipFill>
        <p:spPr>
          <a:xfrm>
            <a:off x="272880" y="3468600"/>
            <a:ext cx="912960" cy="1281240"/>
          </a:xfrm>
          <a:prstGeom prst="rect">
            <a:avLst/>
          </a:prstGeom>
          <a:ln w="0">
            <a:noFill/>
          </a:ln>
        </p:spPr>
      </p:pic>
      <p:pic>
        <p:nvPicPr>
          <p:cNvPr id="296" name="Action Button: Custom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08080" y="3425760"/>
            <a:ext cx="1041120" cy="1463760"/>
          </a:xfrm>
          <a:prstGeom prst="rect">
            <a:avLst/>
          </a:prstGeom>
          <a:ln w="0">
            <a:noFill/>
          </a:ln>
        </p:spPr>
      </p:pic>
      <p:pic>
        <p:nvPicPr>
          <p:cNvPr id="297" name="Action Button: Custom 15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28760" y="3425760"/>
            <a:ext cx="542880" cy="1463760"/>
          </a:xfrm>
          <a:prstGeom prst="rect">
            <a:avLst/>
          </a:prstGeom>
          <a:ln w="0">
            <a:noFill/>
          </a:ln>
        </p:spPr>
      </p:pic>
      <p:pic>
        <p:nvPicPr>
          <p:cNvPr id="298" name="Action Button: Custom 16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90880" y="3481560"/>
            <a:ext cx="933480" cy="1407960"/>
          </a:xfrm>
          <a:prstGeom prst="rect">
            <a:avLst/>
          </a:prstGeom>
          <a:ln w="0">
            <a:noFill/>
          </a:ln>
        </p:spPr>
      </p:pic>
      <p:pic>
        <p:nvPicPr>
          <p:cNvPr id="299" name="Action Button: Custom 17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206880" y="3425760"/>
            <a:ext cx="834840" cy="1463760"/>
          </a:xfrm>
          <a:prstGeom prst="rect">
            <a:avLst/>
          </a:prstGeom>
          <a:ln w="0">
            <a:noFill/>
          </a:ln>
        </p:spPr>
      </p:pic>
      <p:pic>
        <p:nvPicPr>
          <p:cNvPr id="300" name="Action Button: Custom 18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133880" y="3425760"/>
            <a:ext cx="938160" cy="1536840"/>
          </a:xfrm>
          <a:prstGeom prst="rect">
            <a:avLst/>
          </a:prstGeom>
          <a:ln w="0">
            <a:noFill/>
          </a:ln>
        </p:spPr>
      </p:pic>
      <p:pic>
        <p:nvPicPr>
          <p:cNvPr id="301" name="Action Button: Custom 19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7960" y="3481560"/>
            <a:ext cx="1023840" cy="1541160"/>
          </a:xfrm>
          <a:prstGeom prst="rect">
            <a:avLst/>
          </a:prstGeom>
          <a:ln w="0">
            <a:noFill/>
          </a:ln>
        </p:spPr>
      </p:pic>
      <p:pic>
        <p:nvPicPr>
          <p:cNvPr id="302" name="Action Button: Custom 20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303960" y="3517920"/>
            <a:ext cx="1071720" cy="1530360"/>
          </a:xfrm>
          <a:prstGeom prst="rect">
            <a:avLst/>
          </a:prstGeom>
          <a:ln w="0">
            <a:noFill/>
          </a:ln>
        </p:spPr>
      </p:pic>
      <p:pic>
        <p:nvPicPr>
          <p:cNvPr id="303" name="Action Button: Custom 21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527960" y="3425760"/>
            <a:ext cx="1182600" cy="1622520"/>
          </a:xfrm>
          <a:prstGeom prst="rect">
            <a:avLst/>
          </a:prstGeom>
          <a:ln w="0">
            <a:noFill/>
          </a:ln>
        </p:spPr>
      </p:pic>
      <p:pic>
        <p:nvPicPr>
          <p:cNvPr id="304" name="Action Button: Home 22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7527960" y="5553000"/>
            <a:ext cx="714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00000"/>
                </a:solidFill>
                <a:latin typeface="Book Antiqua"/>
              </a:rPr>
              <a:t>1) Eight Fold Path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Book Antiqua"/>
              </a:rPr>
              <a:t>RIGHT KNOWLEDGE</a:t>
            </a:r>
            <a:endParaRPr b="0" lang="en-US" sz="36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07" name="Action Button: Home 3" descr=""/>
          <p:cNvPicPr/>
          <p:nvPr/>
        </p:nvPicPr>
        <p:blipFill>
          <a:blip r:embed="rId2"/>
          <a:stretch/>
        </p:blipFill>
        <p:spPr>
          <a:xfrm>
            <a:off x="7497720" y="5321160"/>
            <a:ext cx="865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57:01Z</dcterms:created>
  <dc:creator>Cox, Emily R</dc:creator>
  <dc:description/>
  <dc:language>en-US</dc:language>
  <cp:lastModifiedBy>Cox, Emily R</cp:lastModifiedBy>
  <cp:lastPrinted>2010-12-09T16:29:19Z</cp:lastPrinted>
  <dcterms:modified xsi:type="dcterms:W3CDTF">2010-12-21T19:53:44Z</dcterms:modified>
  <cp:revision>12</cp:revision>
  <dc:subject/>
  <dc:title>BUDDHISM</dc:title>
</cp:coreProperties>
</file>